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7B-AFDB-4BDE-B765-16F38F07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38C-F0E5-4E5D-8D37-49866F9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8F5-384D-4172-A15A-0741EB6C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1DA-DA67-405F-A78B-DB030D58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26A-0FD0-4577-9390-A9A2B8C1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6EC-73DF-4EA2-9991-F621148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D4E-1F61-4AA9-A2BA-B11253A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1C8-E8AE-4DF2-BB6C-4754EC3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4FB-4A3C-4343-88D2-8010B33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471-BB33-4637-B9BC-1431671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A7-A5EE-4FD8-8EE6-7AE662F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4B3-11D0-4682-AAB4-6AC5A07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AC6-6773-4B90-AB02-9269E064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5.png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68360"/>
                <a:gridCol w="3965760"/>
                <a:gridCol w="290988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VREAU S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  <a:ea typeface="Times New Roman"/>
                        </a:rPr>
                        <a:t>Ǎ 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AM 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  <a:ea typeface="Times New Roman"/>
                        </a:rPr>
                        <a:t>ÎNVǍ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1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15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modificările din natură care vestesc ploaia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fenomenele naturii care însoţesc ploaia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este importanţa ploii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pagubele ce pot fi provocate de ploai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schimbările din natură produse de ninsoar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este importanţa ninsorii şi a vântului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pagubele produse de vânt şi ninsoar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jocurile cu zăpadă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66"/>
                        </a:buClr>
                        <a:buFont typeface="Wingdings" charset="2"/>
                        <a:buChar char="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42" name="" descr="{animated cloud}"/>
          <p:cNvPicPr/>
          <p:nvPr/>
        </p:nvPicPr>
        <p:blipFill>
          <a:blip r:embed="rId9"/>
          <a:stretch/>
        </p:blipFill>
        <p:spPr>
          <a:xfrm>
            <a:off x="179280" y="2349360"/>
            <a:ext cx="187164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{animated cloud}"/>
          <p:cNvPicPr/>
          <p:nvPr/>
        </p:nvPicPr>
        <p:blipFill>
          <a:blip r:embed="rId10"/>
          <a:stretch/>
        </p:blipFill>
        <p:spPr>
          <a:xfrm>
            <a:off x="250920" y="90792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1"/>
          <a:stretch/>
        </p:blipFill>
        <p:spPr>
          <a:xfrm>
            <a:off x="0" y="3141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2"/>
          <a:stretch/>
        </p:blipFill>
        <p:spPr>
          <a:xfrm>
            <a:off x="0" y="3068640"/>
            <a:ext cx="1368360" cy="110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3"/>
          <a:stretch/>
        </p:blipFill>
        <p:spPr>
          <a:xfrm>
            <a:off x="0" y="472428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5-31T02:44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